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66D-C630-4CC3-B92E-CF169F8F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219-48DA-4AEF-8A61-57F642F1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E18-4B01-46DE-9B7E-441B7745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726-E0DB-43D6-867B-CFE54EF2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4B9-6F3A-44FD-A71B-19EBE731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775-B784-4605-8C20-E9C05AC0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233-D109-45EB-9805-EF0A64D2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CF3-FA37-4C25-9D8B-34C759FE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E21-8965-4C1C-A968-6967AC67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3CA-192F-40D7-A2A1-D7307FE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1AB-C278-458F-B70C-38AB6A50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803-761B-4896-B17D-F2F76846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A8D2A-3EB3-4A1B-9525-A540398AB7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0DF2E-B16A-4D84-8496-1BEFB5D25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protons does nitrogen (N)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977760"/>
            <a:ext cx="554832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2 electrons can fit in the first she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8 electrons can fit in all the other shell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548320" y="1612800"/>
            <a:ext cx="359568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100" spc="-1" strike="noStrike" u="sng">
                <a:solidFill>
                  <a:srgbClr val="000000"/>
                </a:solidFill>
                <a:uFillTx/>
                <a:latin typeface="Calibri"/>
              </a:rPr>
              <a:t>The number of electrons in the outside shell is your number of valence electrons.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116532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What element is this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13081" t="0" r="0" b="0"/>
          <a:stretch/>
        </p:blipFill>
        <p:spPr>
          <a:xfrm>
            <a:off x="4711680" y="2768760"/>
            <a:ext cx="5232600" cy="4025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4711680" y="2882880"/>
            <a:ext cx="355680" cy="66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What element is this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927680" y="3263760"/>
            <a:ext cx="340344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Draw a Bohr model of Helium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Draw a Bohr model of Oxygen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Draw a Bohr model of Aluminum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it Slip – On your post-it not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do need your name on 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Draw a Bohr model of carbon (C)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How many valence electrons does carbon have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w – col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mework col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m Na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s – How to draw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os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is the symbol for radon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is the atomic mass of cobalt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is the atomic number of krypton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ich of the following facts about barium is incorrect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It’s symbol is Ba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It’s atomic number is 65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It’s atomic mass is 137.327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8.3 Boh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ohr models allow us to make a drawing that represents a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0" y="932040"/>
            <a:ext cx="431784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411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rst – draw the nucleus of the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cond – draw the electrons in their sh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rcRect l="0" t="23703" r="0" b="0"/>
          <a:stretch/>
        </p:blipFill>
        <p:spPr>
          <a:xfrm>
            <a:off x="457200" y="3429000"/>
            <a:ext cx="2590920" cy="249408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10"/>
          <p:cNvCxnSpPr/>
          <p:nvPr/>
        </p:nvCxnSpPr>
        <p:spPr>
          <a:xfrm flipH="1" flipV="1">
            <a:off x="2019240" y="4607640"/>
            <a:ext cx="22611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TextBox 12"/>
          <p:cNvSpPr/>
          <p:nvPr/>
        </p:nvSpPr>
        <p:spPr>
          <a:xfrm>
            <a:off x="3143160" y="4038480"/>
            <a:ext cx="1790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Calibri"/>
              </a:rPr>
              <a:t>Nucleu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14"/>
          <p:cNvCxnSpPr/>
          <p:nvPr/>
        </p:nvCxnSpPr>
        <p:spPr>
          <a:xfrm flipH="1">
            <a:off x="1231200" y="2768400"/>
            <a:ext cx="788040" cy="96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6"/>
          <p:cNvCxnSpPr/>
          <p:nvPr/>
        </p:nvCxnSpPr>
        <p:spPr>
          <a:xfrm>
            <a:off x="2019240" y="2768760"/>
            <a:ext cx="293040" cy="1499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8"/>
          <p:cNvCxnSpPr/>
          <p:nvPr/>
        </p:nvCxnSpPr>
        <p:spPr>
          <a:xfrm flipH="1">
            <a:off x="1231200" y="2768760"/>
            <a:ext cx="788040" cy="2070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Straight Connector 20"/>
          <p:cNvSpPr/>
          <p:nvPr/>
        </p:nvSpPr>
        <p:spPr>
          <a:xfrm>
            <a:off x="2019240" y="2768760"/>
            <a:ext cx="2032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311560" y="2247840"/>
            <a:ext cx="173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0:05:05Z</dcterms:created>
  <dc:creator>Caroline Roth</dc:creator>
  <dc:description/>
  <dc:language>en-US</dc:language>
  <cp:lastModifiedBy>Caroline Roth</cp:lastModifiedBy>
  <dcterms:modified xsi:type="dcterms:W3CDTF">2011-03-25T10:58:39Z</dcterms:modified>
  <cp:revision>7</cp:revision>
  <dc:subject/>
  <dc:title>8.3 Bohr Models</dc:title>
</cp:coreProperties>
</file>